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png" ContentType="image/pn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2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0"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4F49-86D1-4C62-A306-7629A91D76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BA4C-AF0D-405D-9AEB-4AADF2BA657B}"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CADC-BE5A-4B74-AC16-34CBC0A9E063}"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836FB-6EA6-4075-B695-FB534008A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B9E5C-434E-4006-B862-4A19FD612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EAA02-20D4-46E3-8D41-41B13C8EC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4D62F-B288-456D-8142-5A7B9A44A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CAA4A4-30B7-406E-9D43-E581DE8281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A8664-4AB2-40E7-9F3C-73DB71225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348DF-BE84-4ABE-B5EA-E2D2B1FCC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64579-BA2D-4D35-9E14-F9D99CEA0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A4F09-9C21-460C-9DAE-CEB3CCEEA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BE905-8D94-4448-A12A-292F09393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BF1C4-F516-4CC5-9161-E636D6030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239E0-C0F7-4C7D-8A5E-CC6A1BDA4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16657-B739-4EF1-9691-2B92A6FB3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6BC7E-8D4F-4C89-B391-D715ED766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FB7E8-A58A-4F5C-9D63-AD57DA16D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BF76E3-F347-48FF-BC20-BC2834165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65D1E6-EBBB-4439-8407-855ED6A0BE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82520E-39BB-45A8-94D5-733B2BE569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D5D159-4FC4-4B39-82D0-1469F2651F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9DE570-16EE-4DEC-8AA6-3875D7F8A2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53A6D8-3C47-4C2D-9E4F-ED6D11BE23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5A4E9C-A8BB-483D-AE37-6DFF33E2C6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99C79-3AFA-4C70-B6D6-E60282EF0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4DEB09-06B7-430C-81AF-1DDA9901C7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FC3A77-99E0-4F17-91A4-A0063F1521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B1C733-47D4-4472-B366-13563E4CD3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720473-2D23-4E33-9D24-78BCE9B106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118684-DCFF-4300-8CA9-2A2FD1BDF1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0521CD-8E96-46F0-BEE6-51A9B330A9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25CB80-9B16-4A1F-A05D-AFAB3B91A0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0C4F27-D03E-4856-97B7-8305D34787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1F2B22-BE86-4B29-AB91-19D5766086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8CCA1E-8108-4B6A-B79D-1018A468FB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CBD65-175F-4DDB-A9AA-47718BB29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E754EF-7808-4163-BE51-6B36364143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5D5B21-6EE8-4651-A111-7DB774FE8C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11CF61-CD5D-407A-B088-873479E6BE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646758-ABCF-4E07-B2DE-FD4C0FFE5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C9DB3-50A9-4D8F-930A-4BF74B3DBC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C5B92B-8191-4580-A27B-7674757036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BAF6ED-6E71-48A6-892B-9B04FE1A23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042A78-0691-4A19-8E2C-63CFA9DEC7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80E799-E202-4924-86D2-F476005479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9F3071-5D3A-4739-9D8C-7C6A6DA68D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A68D4-CED2-4F1D-89FB-795AE3FD5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FD8F9E-E16E-4ECC-9CC6-16D68315F7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B9DCA5-D2FF-4C9D-BB09-A67DE41A4A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531216-2B5A-4B3C-B7D4-89920A9A1A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E780F2-A42F-4212-A523-AAD8C9C488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1615D8-9BE9-4B94-A66F-B965CF583F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ACCE58-70B6-4CC7-893B-CD82E85684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79664D-7DC5-4855-A875-D2A1FA1A38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2FA099-7A0F-4D0C-BAF2-0286C6BB87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86B28B-8E72-440F-8B3A-1FDBB9A643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E62207-29AC-4DD7-9329-BF7DB14498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E0A35-B745-416D-8FBC-FEE9FF2E8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9544D9-7E77-4437-AE08-0F34EA299C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9D92D-8042-4983-B74E-81C6CFCE0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B2482-86D3-4AE7-AC78-6EE997239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4B78D-ED17-4503-901B-A34DBA526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8F25-41D0-40D8-8B0A-BC2148F6CFF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BA1E-5BBA-44BD-922A-6105D8E47B4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EB6D-DE7E-4658-BF2A-7206F305936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EBD8-5476-4B54-A72A-0AA0B64382D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208" name="PlaceHolder 5"/>
          <p:cNvSpPr>
            <a:spLocks noGrp="1"/>
          </p:cNvSpPr>
          <p:nvPr>
            <p:ph type="sldNum" idx="15"/>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5FD9-FA19-4F70-A84C-2B1C5F8D36A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Rectangle 2" descr=""/>
          <p:cNvPicPr/>
          <p:nvPr/>
        </p:nvPicPr>
        <p:blipFill>
          <a:blip r:embed="rId1"/>
          <a:stretch/>
        </p:blipFill>
        <p:spPr>
          <a:xfrm>
            <a:off x="530280" y="1255680"/>
            <a:ext cx="8461440" cy="2011320"/>
          </a:xfrm>
          <a:prstGeom prst="rect">
            <a:avLst/>
          </a:prstGeom>
          <a:ln w="0">
            <a:noFill/>
          </a:ln>
        </p:spPr>
      </p:pic>
      <p:sp>
        <p:nvSpPr>
          <p:cNvPr id="25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hapter 14</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2100</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unctions Performed By Intermediaries</a:t>
            </a:r>
            <a:endParaRPr b="0" lang="en-US" sz="45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Transactional Functions</a:t>
            </a:r>
            <a:r>
              <a:rPr b="0" lang="en-GB" sz="2600" spc="-1" strike="noStrike">
                <a:solidFill>
                  <a:srgbClr val="000000"/>
                </a:solidFill>
                <a:latin typeface="Constantia"/>
              </a:rPr>
              <a:t> -- </a:t>
            </a:r>
            <a:r>
              <a:rPr b="0" lang="en-GB" sz="2800" spc="-1" strike="noStrike">
                <a:solidFill>
                  <a:srgbClr val="000000"/>
                </a:solidFill>
                <a:latin typeface="Constantia"/>
              </a:rPr>
              <a:t>These functions involve the buying of products from manufacturers/producers; the risk that taken on by the intermediary in buying on speculation that some consumer will want to eventually buy these products from the intermediary; and the eventual selling of products to consumer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unctions Performed By Intermediaries</a:t>
            </a:r>
            <a:endParaRPr b="0" lang="en-US" sz="45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Logistical Functions</a:t>
            </a:r>
            <a:r>
              <a:rPr b="0" lang="en-GB" sz="2600" spc="-1" strike="noStrike">
                <a:solidFill>
                  <a:srgbClr val="000000"/>
                </a:solidFill>
                <a:latin typeface="Constantia"/>
              </a:rPr>
              <a:t> -- </a:t>
            </a:r>
            <a:r>
              <a:rPr b="0" lang="en-GB" sz="2800" spc="-1" strike="noStrike">
                <a:solidFill>
                  <a:srgbClr val="000000"/>
                </a:solidFill>
                <a:latin typeface="Constantia"/>
              </a:rPr>
              <a:t>These functions involve mixing up the various products from different manufacturers (assorting); Moving and keeping the product safe from loss (shipping and storing) and breaking down the large quantities of products that manufacturers send in, into managable size quantities to be shipped to retailers/consumers (sortin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unctions Performed By Intermediaries</a:t>
            </a:r>
            <a:endParaRPr b="0" lang="en-US" sz="45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Facilitating Functions</a:t>
            </a:r>
            <a:r>
              <a:rPr b="0" lang="en-GB" sz="2600" spc="-1" strike="noStrike">
                <a:solidFill>
                  <a:srgbClr val="000000"/>
                </a:solidFill>
                <a:latin typeface="Constantia"/>
              </a:rPr>
              <a:t> -- These functions involve making it easy for the retailers/consumers to buy the products. Two of the primary roles here involve providing financing, and providing marketing/product information to retailers and/or consum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ypes of Wholesale Intermediaries</a:t>
            </a:r>
            <a:endParaRPr b="0" lang="en-US" sz="45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Generally there are two types of wholesale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ull line/service wholesalers -- ones that provide all of the three major func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Limited line/service wholesalers -- ones that provide only a limited number of function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gents vs. Brokers</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gents work for the manufacture and look after their interes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Brokers work for their customers and seek the best possible deal from manufactur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Vertical Marketing Systems - Overview</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Vertical marketing systems are formalized links between each manufacturer/ intermediary in a marketing channe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se formalized links can take one of three for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rporate Syste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ntractual Syste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dministered System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ertical Marketing Systems (1)</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orporate Vertical Syst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ll members of the marketing channel are owned by a single owner.</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The Irving group of companies is an excellent illustration of a corporate system.</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Irving refines oil, ships oil in Irving tankers and trucks, distributes it through Irving terminals, to Irving service station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See:  “I Like To See the Wheels Turn: The K.C. Irving Story” National Film Boar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ertical Marketing Systems (2)</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ontractual Vertical Syst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ll members of the marketing channel are under contract with each other to supply/buy product from each other.</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This structure is commonly found in Canada and the Franchis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Eg: MacDonald'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ertical Marketing Systems (3)</a:t>
            </a:r>
            <a:endParaRPr b="0" lang="en-US" sz="50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dministered Vertical Syst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e member of the marketing channel is so large that it dominated all of the other members.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Wal-Mart can achieve economies by its sheer size relative to its suppliers.  It can force its suppliers to become more efficient and therefore pass the resulting savings along to consumers.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33160" y="228240"/>
            <a:ext cx="838188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296" name=""/>
          <p:cNvSpPr txBox="1"/>
          <p:nvPr/>
        </p:nvSpPr>
        <p:spPr>
          <a:xfrm>
            <a:off x="457200" y="1785600"/>
            <a:ext cx="8229600" cy="43448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Deciding in whether a manufacturer offers its products through a short - direct channel or a longer - indirect channel is contingent on several key facto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Environmental factors</a:t>
            </a:r>
            <a:r>
              <a:rPr b="0" lang="en-GB" sz="2400" spc="-1" strike="noStrike">
                <a:solidFill>
                  <a:srgbClr val="000000"/>
                </a:solidFill>
                <a:latin typeface="Constantia"/>
              </a:rPr>
              <a:t>: Effects of changes in society, the economy, technology, competition and regulation all impact upon the choice of channe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hannels of Distribution</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A Channel of Distribution, or Marketing Channel, is the route that a product follows in order to pass from the manufacturer to the ultimate consumer</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228240"/>
            <a:ext cx="853452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298" name=""/>
          <p:cNvSpPr txBox="1"/>
          <p:nvPr/>
        </p:nvSpPr>
        <p:spPr>
          <a:xfrm>
            <a:off x="380880" y="2133360"/>
            <a:ext cx="8229600" cy="4344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nsumer Factors</a:t>
            </a:r>
            <a:r>
              <a:rPr b="0" lang="en-GB" sz="2400" spc="-1" strike="noStrike">
                <a:solidFill>
                  <a:srgbClr val="000000"/>
                </a:solidFill>
                <a:latin typeface="Constantia"/>
              </a:rPr>
              <a:t>: Sometimes consumers dictate the choice of channel required.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andy bar manufacturer Cadbury, for example, needs to sell its products everywhere.  People are generally not willing to look too hard or wait too long to buy an impulse item like a candy bar.  Therefore and Indirect Channel is best for distributing candy bars everywher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360"/>
            <a:ext cx="853452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300" name=""/>
          <p:cNvSpPr txBox="1"/>
          <p:nvPr/>
        </p:nvSpPr>
        <p:spPr>
          <a:xfrm>
            <a:off x="457200" y="1785600"/>
            <a:ext cx="8229600" cy="4344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Product Factors</a:t>
            </a:r>
            <a:r>
              <a:rPr b="0" lang="en-GB" sz="2400" spc="-1" strike="noStrike">
                <a:solidFill>
                  <a:srgbClr val="000000"/>
                </a:solidFill>
                <a:latin typeface="Constantia"/>
              </a:rPr>
              <a:t>: certain products are not sold in sufficient volume to warrant wide distribution -- therefore a more direct channe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ANDU nuclear reactors do not sell in large volume ( 1 a year ?) Therefore a large distribution network is not required and a direct channel (Manufacturer --&gt; Consumer) is most appropriat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8240"/>
            <a:ext cx="868680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302" name=""/>
          <p:cNvSpPr txBox="1"/>
          <p:nvPr/>
        </p:nvSpPr>
        <p:spPr>
          <a:xfrm>
            <a:off x="457200" y="1785600"/>
            <a:ext cx="8229600" cy="4344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mpany Factors</a:t>
            </a:r>
            <a:r>
              <a:rPr b="0" lang="en-GB" sz="2400" spc="-1" strike="noStrike">
                <a:solidFill>
                  <a:srgbClr val="000000"/>
                </a:solidFill>
                <a:latin typeface="Constantia"/>
              </a:rPr>
              <a:t>: A company may choose to sell a certain way using a certain channel strateg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L.L. Bean sells through direct mail only.  L.L. Bean may be large and popular enough to set up retail sores as other competitors such as Eddie Bauer have chosen to do,  but L.L. Bean have chosen not to pursue the retail optio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hannel Design Considerations</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en Designing a Marketing Channel consider the follow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hat is the best way to serve/cover the target marke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hat is the best way to satisfy buyer requiremen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hich Channel design will yield the most profi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Physical Distribution vs. Logistics</a:t>
            </a:r>
            <a:endParaRPr b="0" lang="en-US" sz="4500" spc="-1" strike="noStrike">
              <a:solidFill>
                <a:srgbClr val="04617b"/>
              </a:solidFill>
              <a:latin typeface="Calibri"/>
            </a:endParaRPr>
          </a:p>
        </p:txBody>
      </p:sp>
      <p:sp>
        <p:nvSpPr>
          <p:cNvPr id="30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hysical Distribution focuses on the distribution of products from the manufacturer to the custom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Logistics has a broader focus.  Logistics encompasses the flow of raw material to the manufacturer as well as the physical distribution of the finished product to the consume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Physical Distribution vs. Logistics</a:t>
            </a:r>
            <a:endParaRPr b="0" lang="en-US" sz="4500" spc="-1" strike="noStrike">
              <a:solidFill>
                <a:srgbClr val="04617b"/>
              </a:solidFill>
              <a:latin typeface="Calibri"/>
            </a:endParaRPr>
          </a:p>
        </p:txBody>
      </p:sp>
      <p:sp>
        <p:nvSpPr>
          <p:cNvPr id="308" name="Line 4"/>
          <p:cNvSpPr/>
          <p:nvPr/>
        </p:nvSpPr>
        <p:spPr>
          <a:xfrm>
            <a:off x="1447920" y="373392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9" name="Rectangle 5"/>
          <p:cNvSpPr/>
          <p:nvPr/>
        </p:nvSpPr>
        <p:spPr>
          <a:xfrm>
            <a:off x="3505320" y="3124080"/>
            <a:ext cx="2209680" cy="106704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ufacturer</a:t>
            </a:r>
            <a:endParaRPr b="0" lang="en-US" sz="2400" spc="-1" strike="noStrike">
              <a:solidFill>
                <a:srgbClr val="000000"/>
              </a:solidFill>
              <a:latin typeface="Verdana"/>
            </a:endParaRPr>
          </a:p>
        </p:txBody>
      </p:sp>
      <p:sp>
        <p:nvSpPr>
          <p:cNvPr id="310" name="Oval 8"/>
          <p:cNvSpPr/>
          <p:nvPr/>
        </p:nvSpPr>
        <p:spPr>
          <a:xfrm>
            <a:off x="457200" y="3429000"/>
            <a:ext cx="1523880" cy="6094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1" name="Oval 9"/>
          <p:cNvSpPr/>
          <p:nvPr/>
        </p:nvSpPr>
        <p:spPr>
          <a:xfrm>
            <a:off x="6934320" y="3429000"/>
            <a:ext cx="1523880" cy="6094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2" name="Text Box 10"/>
          <p:cNvSpPr/>
          <p:nvPr/>
        </p:nvSpPr>
        <p:spPr>
          <a:xfrm>
            <a:off x="304920" y="2860560"/>
            <a:ext cx="221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w Material</a:t>
            </a:r>
            <a:endParaRPr b="0" lang="en-US" sz="2400" spc="-1" strike="noStrike">
              <a:solidFill>
                <a:srgbClr val="000000"/>
              </a:solidFill>
              <a:latin typeface="Verdana"/>
            </a:endParaRPr>
          </a:p>
        </p:txBody>
      </p:sp>
      <p:sp>
        <p:nvSpPr>
          <p:cNvPr id="313" name="Text Box 11"/>
          <p:cNvSpPr/>
          <p:nvPr/>
        </p:nvSpPr>
        <p:spPr>
          <a:xfrm>
            <a:off x="6995160" y="2936880"/>
            <a:ext cx="14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umer</a:t>
            </a:r>
            <a:endParaRPr b="0" lang="en-US" sz="2400" spc="-1" strike="noStrike">
              <a:solidFill>
                <a:srgbClr val="000000"/>
              </a:solidFill>
              <a:latin typeface="Verdana"/>
            </a:endParaRPr>
          </a:p>
        </p:txBody>
      </p:sp>
      <p:sp>
        <p:nvSpPr>
          <p:cNvPr id="314" name="AutoShape 13"/>
          <p:cNvSpPr/>
          <p:nvPr/>
        </p:nvSpPr>
        <p:spPr>
          <a:xfrm flipV="1" rot="16223400">
            <a:off x="7139880" y="2947320"/>
            <a:ext cx="195120" cy="2743200"/>
          </a:xfrm>
          <a:custGeom>
            <a:avLst/>
            <a:gdLst>
              <a:gd name="textAreaLeft" fmla="*/ 124560 w 195120"/>
              <a:gd name="textAreaRight" fmla="*/ 195480 w 1951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5" name=""/>
          <p:cNvSpPr txBox="1"/>
          <p:nvPr/>
        </p:nvSpPr>
        <p:spPr>
          <a:xfrm rot="16223400">
            <a:off x="4637880" y="2297160"/>
            <a:ext cx="238320" cy="5823000"/>
          </a:xfrm>
          <a:prstGeom prst="rect">
            <a:avLst/>
          </a:prstGeom>
          <a:noFill/>
          <a:ln w="9360">
            <a:solidFill>
              <a:srgbClr val="000000"/>
            </a:solidFill>
            <a:round/>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6" name="Text Box 15"/>
          <p:cNvSpPr/>
          <p:nvPr/>
        </p:nvSpPr>
        <p:spPr>
          <a:xfrm flipH="1">
            <a:off x="6705000" y="434340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ribution</a:t>
            </a:r>
            <a:endParaRPr b="0" lang="en-US" sz="2400" spc="-1" strike="noStrike">
              <a:solidFill>
                <a:srgbClr val="000000"/>
              </a:solidFill>
              <a:latin typeface="Verdana"/>
            </a:endParaRPr>
          </a:p>
        </p:txBody>
      </p:sp>
      <p:sp>
        <p:nvSpPr>
          <p:cNvPr id="317" name="Text Box 16"/>
          <p:cNvSpPr/>
          <p:nvPr/>
        </p:nvSpPr>
        <p:spPr>
          <a:xfrm>
            <a:off x="4038480" y="57913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gistic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Importance of Logistics Depends on..</a:t>
            </a:r>
            <a:endParaRPr b="0" lang="en-US" sz="4500" spc="-1" strike="noStrike">
              <a:solidFill>
                <a:srgbClr val="04617b"/>
              </a:solidFill>
              <a:latin typeface="Calibri"/>
            </a:endParaRPr>
          </a:p>
        </p:txBody>
      </p:sp>
      <p:sp>
        <p:nvSpPr>
          <p:cNvPr id="31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number, weight, volume, and perish ability of the product. (Product Facto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umber of material supply sour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umber of manufacturing poi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umber of consumption poin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Logistics and Marketing Strategy Interact</a:t>
            </a:r>
            <a:endParaRPr b="0" lang="en-US" sz="4500" spc="-1" strike="noStrike">
              <a:solidFill>
                <a:srgbClr val="04617b"/>
              </a:solidFill>
              <a:latin typeface="Calibri"/>
            </a:endParaRPr>
          </a:p>
        </p:txBody>
      </p:sp>
      <p:sp>
        <p:nvSpPr>
          <p:cNvPr id="321" name="PlaceHolder 2"/>
          <p:cNvSpPr>
            <a:spLocks noGrp="1"/>
          </p:cNvSpPr>
          <p:nvPr>
            <p:ph/>
          </p:nvPr>
        </p:nvSpPr>
        <p:spPr>
          <a:xfrm>
            <a:off x="456840" y="1828800"/>
            <a:ext cx="8178840" cy="42292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oduct Factors - The number, weight, volume, and perish ability of the product.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icing Factors- Costs of shipping and storage &amp; discoun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omotional Factors - Ads and promotion must be timed with logistical factors so that the product is availabl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lace Factors - Transportation and storage issu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Objectives of a good Logistical System.</a:t>
            </a:r>
            <a:endParaRPr b="0" lang="en-US" sz="4500" spc="-1" strike="noStrike">
              <a:solidFill>
                <a:srgbClr val="04617b"/>
              </a:solidFill>
              <a:latin typeface="Calibri"/>
            </a:endParaRPr>
          </a:p>
        </p:txBody>
      </p:sp>
      <p:sp>
        <p:nvSpPr>
          <p:cNvPr id="32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re has to be a trade off made between minimizing logistical costs of moving and storage and maximizing the service to the customer.</a:t>
            </a:r>
            <a:endParaRPr b="0" lang="en-US" sz="26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g. - Should a car dealership stock every part for every car?  Inventory and shipping costs are expensive but having customers waiting because the part is not available is also expensive in terms of lost customer satisfac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otal Logistics Cost Concept</a:t>
            </a: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ries to balance the costs of shipping with the costs of storage to find the optimum minimum cost level.</a:t>
            </a:r>
            <a:endParaRPr b="0" lang="en-US" sz="2600" spc="-1" strike="noStrike">
              <a:solidFill>
                <a:srgbClr val="000000"/>
              </a:solidFill>
              <a:latin typeface="Constantia"/>
            </a:endParaRPr>
          </a:p>
        </p:txBody>
      </p:sp>
      <p:sp>
        <p:nvSpPr>
          <p:cNvPr id="326" name="Rectangle 4"/>
          <p:cNvSpPr/>
          <p:nvPr/>
        </p:nvSpPr>
        <p:spPr>
          <a:xfrm>
            <a:off x="1828800" y="3657600"/>
            <a:ext cx="5562720" cy="2209680"/>
          </a:xfrm>
          <a:prstGeom prst="rect">
            <a:avLst/>
          </a:pr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27" name="Line 5"/>
          <p:cNvSpPr/>
          <p:nvPr/>
        </p:nvSpPr>
        <p:spPr>
          <a:xfrm>
            <a:off x="2362320" y="3809880"/>
            <a:ext cx="441936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28" name="Line 6"/>
          <p:cNvSpPr/>
          <p:nvPr/>
        </p:nvSpPr>
        <p:spPr>
          <a:xfrm flipV="1">
            <a:off x="2514600" y="3962160"/>
            <a:ext cx="434340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29" name="Text Box 7"/>
          <p:cNvSpPr/>
          <p:nvPr/>
        </p:nvSpPr>
        <p:spPr>
          <a:xfrm>
            <a:off x="838080" y="583236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Storage availability              High </a:t>
            </a:r>
            <a:endParaRPr b="0" lang="en-US" sz="2400" spc="-1" strike="noStrike">
              <a:solidFill>
                <a:srgbClr val="000000"/>
              </a:solidFill>
              <a:latin typeface="Verdana"/>
            </a:endParaRPr>
          </a:p>
        </p:txBody>
      </p:sp>
      <p:sp>
        <p:nvSpPr>
          <p:cNvPr id="330" name="Text Box 8"/>
          <p:cNvSpPr/>
          <p:nvPr/>
        </p:nvSpPr>
        <p:spPr>
          <a:xfrm>
            <a:off x="304920" y="4572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sts</a:t>
            </a:r>
            <a:endParaRPr b="0" lang="en-US" sz="2400" spc="-1" strike="noStrike">
              <a:solidFill>
                <a:srgbClr val="000000"/>
              </a:solidFill>
              <a:latin typeface="Verdana"/>
            </a:endParaRPr>
          </a:p>
        </p:txBody>
      </p:sp>
      <p:sp>
        <p:nvSpPr>
          <p:cNvPr id="331" name="Text Box 9"/>
          <p:cNvSpPr/>
          <p:nvPr/>
        </p:nvSpPr>
        <p:spPr>
          <a:xfrm>
            <a:off x="762120" y="3581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a:t>
            </a:r>
            <a:endParaRPr b="0" lang="en-US" sz="2400" spc="-1" strike="noStrike">
              <a:solidFill>
                <a:srgbClr val="000000"/>
              </a:solidFill>
              <a:latin typeface="Verdana"/>
            </a:endParaRPr>
          </a:p>
        </p:txBody>
      </p:sp>
      <p:sp>
        <p:nvSpPr>
          <p:cNvPr id="332" name="Freeform 13"/>
          <p:cNvSpPr/>
          <p:nvPr/>
        </p:nvSpPr>
        <p:spPr>
          <a:xfrm>
            <a:off x="3276720" y="3886200"/>
            <a:ext cx="2819160" cy="304920"/>
          </a:xfrm>
          <a:custGeom>
            <a:avLst/>
            <a:gdLst>
              <a:gd name="textAreaLeft" fmla="*/ 0 w 2819160"/>
              <a:gd name="textAreaRight" fmla="*/ 2819520 w 2819160"/>
              <a:gd name="textAreaTop" fmla="*/ 0 h 304920"/>
              <a:gd name="textAreaBottom" fmla="*/ 305280 h 304920"/>
            </a:gdLst>
            <a:ahLst/>
            <a:rect l="textAreaLeft" t="textAreaTop" r="textAreaRight" b="textAreaBottom"/>
            <a:pathLst>
              <a:path w="1776" h="192">
                <a:moveTo>
                  <a:pt x="0" y="0"/>
                </a:moveTo>
                <a:cubicBezTo>
                  <a:pt x="284" y="96"/>
                  <a:pt x="568" y="192"/>
                  <a:pt x="864" y="192"/>
                </a:cubicBezTo>
                <a:cubicBezTo>
                  <a:pt x="1160" y="192"/>
                  <a:pt x="1624" y="32"/>
                  <a:pt x="17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33" name="Text Box 14"/>
          <p:cNvSpPr/>
          <p:nvPr/>
        </p:nvSpPr>
        <p:spPr>
          <a:xfrm>
            <a:off x="6858000" y="541008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ransportation costs</a:t>
            </a:r>
            <a:endParaRPr b="0" lang="en-US" sz="1400" spc="-1" strike="noStrike">
              <a:solidFill>
                <a:srgbClr val="000000"/>
              </a:solidFill>
              <a:latin typeface="Verdana"/>
            </a:endParaRPr>
          </a:p>
        </p:txBody>
      </p:sp>
      <p:sp>
        <p:nvSpPr>
          <p:cNvPr id="334" name="Text Box 15"/>
          <p:cNvSpPr/>
          <p:nvPr/>
        </p:nvSpPr>
        <p:spPr>
          <a:xfrm>
            <a:off x="7010280" y="38862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torage Costs</a:t>
            </a:r>
            <a:endParaRPr b="0" lang="en-US" sz="1400" spc="-1" strike="noStrike">
              <a:solidFill>
                <a:srgbClr val="000000"/>
              </a:solidFill>
              <a:latin typeface="Verdana"/>
            </a:endParaRPr>
          </a:p>
        </p:txBody>
      </p:sp>
      <p:sp>
        <p:nvSpPr>
          <p:cNvPr id="335" name="Text Box 16"/>
          <p:cNvSpPr/>
          <p:nvPr/>
        </p:nvSpPr>
        <p:spPr>
          <a:xfrm>
            <a:off x="5943600" y="3124080"/>
            <a:ext cx="1066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tal Logistics Cost</a:t>
            </a:r>
            <a:endParaRPr b="0" lang="en-US" sz="1600" spc="-1" strike="noStrike">
              <a:solidFill>
                <a:srgbClr val="000000"/>
              </a:solidFill>
              <a:latin typeface="Verdana"/>
            </a:endParaRPr>
          </a:p>
        </p:txBody>
      </p:sp>
      <p:sp>
        <p:nvSpPr>
          <p:cNvPr id="336" name="Line 18"/>
          <p:cNvSpPr/>
          <p:nvPr/>
        </p:nvSpPr>
        <p:spPr>
          <a:xfrm flipV="1">
            <a:off x="1523880" y="40384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37" name="Line 19"/>
          <p:cNvSpPr/>
          <p:nvPr/>
        </p:nvSpPr>
        <p:spPr>
          <a:xfrm>
            <a:off x="3352680" y="6248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4617b"/>
                </a:solidFill>
                <a:latin typeface="Calibri"/>
              </a:rPr>
              <a:t>Marketing Intermediaries</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The organizations that the product flows through on its way to the consumer are known as Marketing Intermediaries.</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ustomer Service Concept</a:t>
            </a: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Concept simply balances the trade-off of the cost of the Total Logistics Cost Concept (Previous Slide) with the costs of providing key elements of customer service such as Communication, Dependability, Convenience and Tim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Four Major Logistics Functions</a:t>
            </a:r>
            <a:endParaRPr b="0" lang="en-US" sz="4500" spc="-1" strike="noStrike">
              <a:solidFill>
                <a:srgbClr val="04617b"/>
              </a:solidFill>
              <a:latin typeface="Calibri"/>
            </a:endParaRPr>
          </a:p>
        </p:txBody>
      </p:sp>
      <p:sp>
        <p:nvSpPr>
          <p:cNvPr id="34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unction 1 - Transportation</a:t>
            </a:r>
            <a:endParaRPr b="0" lang="en-US" sz="26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Five basic modes of rail, road, air, water and pipelines. (Inter-modal Transportation involves a mixture of method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Each method has distinctive advantages over the other.</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hoice depends on the destination and the product.</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Weight out the advantages disadvantages and costs of each</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unction 2 - Warehousing &amp; Materials Handling</a:t>
            </a:r>
            <a:endParaRPr b="0" lang="en-US" sz="26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Key Functions include Order Processing and Inventory Management.</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Just-in-time (JIT) inventory is becoming increasingly popular because it affords significant cost savings.</a:t>
            </a: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Four Major Logistics Functions</a:t>
            </a:r>
            <a:endParaRPr b="0" lang="en-US" sz="4500" spc="-1" strike="noStrike">
              <a:solidFill>
                <a:srgbClr val="04617b"/>
              </a:solidFill>
              <a:latin typeface="Calibri"/>
            </a:endParaRPr>
          </a:p>
        </p:txBody>
      </p:sp>
      <p:sp>
        <p:nvSpPr>
          <p:cNvPr id="34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unction 3 – Order Processing</a:t>
            </a:r>
            <a:endParaRPr b="0" lang="en-US" sz="24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Electronic Data Interchange (EDI) has become a critical component of a good logistics process.</a:t>
            </a:r>
            <a:endParaRPr b="0" lang="en-US" sz="19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unction 4 – Inventory management</a:t>
            </a:r>
            <a:endParaRPr b="0" lang="en-US" sz="24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Why Hold Inventory?</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Buffer against supply slumps/demand bump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Better customer service</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Provides a hedge against price increase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Protection against uncertain events</a:t>
            </a:r>
            <a:endParaRPr b="0" lang="en-US" sz="16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Inventory Costs</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Capital (Cost of warehouse), Servicing (heating the warehouse), Storage (the storage &amp; handling costs) &amp; Risk (Fire and loss)</a:t>
            </a:r>
            <a:endParaRPr b="0" lang="en-US" sz="16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Strategies to manage the supply chain</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Just-in-time (JIT) inventory is becoming increasingly popular because it affords significant cost saving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Vendor Managed inventory (VMI) retailer sales trip automatic ordering</a:t>
            </a:r>
            <a:endParaRPr b="0" lang="en-US" sz="1600" spc="-1" strike="noStrike">
              <a:solidFill>
                <a:srgbClr val="000000"/>
              </a:solidFill>
              <a:latin typeface="Constantia"/>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8" name="Object 3"/>
          <p:cNvGraphicFramePr/>
          <p:nvPr/>
        </p:nvGraphicFramePr>
        <p:xfrm>
          <a:off x="0" y="685800"/>
          <a:ext cx="8381880" cy="5052960"/>
        </p:xfrm>
        <a:graphic>
          <a:graphicData uri="http://schemas.openxmlformats.org/presentationml/2006/ole">
            <p:oleObj r:id="rId1" spid="">
              <p:embed/>
              <p:pic>
                <p:nvPicPr>
                  <p:cNvPr id="259" name="Object 3" descr=""/>
                  <p:cNvPicPr/>
                  <p:nvPr/>
                </p:nvPicPr>
                <p:blipFill>
                  <a:blip r:embed="rId2"/>
                  <a:stretch/>
                </p:blipFill>
                <p:spPr>
                  <a:xfrm>
                    <a:off x="0" y="685800"/>
                    <a:ext cx="8381880" cy="5052960"/>
                  </a:xfrm>
                  <a:prstGeom prst="rect">
                    <a:avLst/>
                  </a:prstGeom>
                  <a:ln w="0">
                    <a:noFill/>
                  </a:ln>
                </p:spPr>
              </p:pic>
            </p:oleObj>
          </a:graphicData>
        </a:graphic>
      </p:graphicFrame>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228600"/>
            <a:ext cx="7772400" cy="1447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Direct Channels</a:t>
            </a:r>
            <a:r>
              <a:rPr b="0" lang="en-GB" sz="4500" spc="-1" strike="noStrike">
                <a:solidFill>
                  <a:srgbClr val="04617b"/>
                </a:solidFill>
                <a:latin typeface="Calibri"/>
              </a:rPr>
              <a:t> vs. Indirect Channels</a:t>
            </a:r>
            <a:endParaRPr b="0" lang="en-US" sz="45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ome marketing Channels are relatively short with few intermediaries -- These are known as Direct Channe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ome marketing channels are relatively long with many intermediaries -- These are known as Indirect Channel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2" name="Object 3"/>
          <p:cNvGraphicFramePr/>
          <p:nvPr/>
        </p:nvGraphicFramePr>
        <p:xfrm>
          <a:off x="1362240" y="838080"/>
          <a:ext cx="7781760" cy="4975200"/>
        </p:xfrm>
        <a:graphic>
          <a:graphicData uri="http://schemas.openxmlformats.org/presentationml/2006/ole">
            <p:oleObj r:id="rId1" spid="">
              <p:embed/>
              <p:pic>
                <p:nvPicPr>
                  <p:cNvPr id="263" name="Object 3" descr=""/>
                  <p:cNvPicPr/>
                  <p:nvPr/>
                </p:nvPicPr>
                <p:blipFill>
                  <a:blip r:embed="rId2"/>
                  <a:stretch/>
                </p:blipFill>
                <p:spPr>
                  <a:xfrm>
                    <a:off x="1362240" y="838080"/>
                    <a:ext cx="7781760" cy="4975200"/>
                  </a:xfrm>
                  <a:prstGeom prst="rect">
                    <a:avLst/>
                  </a:prstGeom>
                  <a:ln w="0">
                    <a:noFill/>
                  </a:ln>
                </p:spPr>
              </p:pic>
            </p:oleObj>
          </a:graphicData>
        </a:graphic>
      </p:graphicFrame>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Why are there Marketing Intermediaries?</a:t>
            </a:r>
            <a:endParaRPr b="0" lang="en-US" sz="4500" spc="-1" strike="noStrike">
              <a:solidFill>
                <a:srgbClr val="04617b"/>
              </a:solidFill>
              <a:latin typeface="Calibri"/>
            </a:endParaRPr>
          </a:p>
        </p:txBody>
      </p:sp>
      <p:sp>
        <p:nvSpPr>
          <p:cNvPr id="265" name=""/>
          <p:cNvSpPr txBox="1"/>
          <p:nvPr/>
        </p:nvSpPr>
        <p:spPr>
          <a:xfrm>
            <a:off x="456840" y="1980720"/>
            <a:ext cx="8178840" cy="4534200"/>
          </a:xfrm>
          <a:prstGeom prst="rect">
            <a:avLst/>
          </a:prstGeom>
          <a:noFill/>
          <a:ln w="0">
            <a:noFill/>
          </a:ln>
        </p:spPr>
        <p:txBody>
          <a:bodyPr anchor="t">
            <a:normAutofit fontScale="95000"/>
          </a:bodyPr>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Marketing intermediaries allow for the smooth flow of products and product information from the manufacturer to the consumer.</a:t>
            </a:r>
            <a:endParaRPr b="0" lang="en-US" sz="2800" spc="-1" strike="noStrike">
              <a:solidFill>
                <a:srgbClr val="000000"/>
              </a:solidFill>
              <a:latin typeface="Constantia"/>
            </a:endParaRPr>
          </a:p>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termediaries help manufactures distribute their products, and help consumers easily find and obtain the products that they need to buy.</a:t>
            </a:r>
            <a:endParaRPr b="0" lang="en-US" sz="2800" spc="-1" strike="noStrike">
              <a:solidFill>
                <a:srgbClr val="000000"/>
              </a:solidFill>
              <a:latin typeface="Constantia"/>
            </a:endParaRPr>
          </a:p>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termediaries reduce the number of contacts necessary in order to make a sale thereby facilitating the marketing proces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886200" y="1371240"/>
            <a:ext cx="5486400" cy="731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e Channel for your New Honda Car</a:t>
            </a:r>
            <a:br>
              <a:rPr sz="3600"/>
            </a:br>
            <a:endParaRPr b="0" lang="en-US" sz="3600" spc="-1" strike="noStrike">
              <a:solidFill>
                <a:srgbClr val="04617b"/>
              </a:solidFill>
              <a:latin typeface="Calibri"/>
            </a:endParaRPr>
          </a:p>
        </p:txBody>
      </p:sp>
      <p:pic>
        <p:nvPicPr>
          <p:cNvPr id="267" name="Picture 7" descr="Train passes monitored track"/>
          <p:cNvPicPr/>
          <p:nvPr/>
        </p:nvPicPr>
        <p:blipFill>
          <a:blip r:embed="rId1"/>
          <a:stretch/>
        </p:blipFill>
        <p:spPr>
          <a:xfrm>
            <a:off x="1295280" y="2362320"/>
            <a:ext cx="2667240" cy="2009520"/>
          </a:xfrm>
          <a:prstGeom prst="rect">
            <a:avLst/>
          </a:prstGeom>
          <a:ln w="0">
            <a:noFill/>
          </a:ln>
        </p:spPr>
      </p:pic>
      <p:pic>
        <p:nvPicPr>
          <p:cNvPr id="268" name="Picture 15" descr="concept"/>
          <p:cNvPicPr/>
          <p:nvPr/>
        </p:nvPicPr>
        <p:blipFill>
          <a:blip r:embed="rId2"/>
          <a:stretch/>
        </p:blipFill>
        <p:spPr>
          <a:xfrm>
            <a:off x="1739880" y="4656240"/>
            <a:ext cx="1473120" cy="761760"/>
          </a:xfrm>
          <a:prstGeom prst="rect">
            <a:avLst/>
          </a:prstGeom>
          <a:ln w="0">
            <a:noFill/>
          </a:ln>
        </p:spPr>
      </p:pic>
      <p:pic>
        <p:nvPicPr>
          <p:cNvPr id="269" name="Picture 19" descr="blk_frtlnr_classic_auto_carrier"/>
          <p:cNvPicPr/>
          <p:nvPr/>
        </p:nvPicPr>
        <p:blipFill>
          <a:blip r:embed="rId3"/>
          <a:stretch/>
        </p:blipFill>
        <p:spPr>
          <a:xfrm>
            <a:off x="4114800" y="4572000"/>
            <a:ext cx="1778040" cy="1181160"/>
          </a:xfrm>
          <a:prstGeom prst="rect">
            <a:avLst/>
          </a:prstGeom>
          <a:ln w="0">
            <a:noFill/>
          </a:ln>
        </p:spPr>
      </p:pic>
      <p:pic>
        <p:nvPicPr>
          <p:cNvPr id="270" name="Picture 23" descr="oceanex"/>
          <p:cNvPicPr/>
          <p:nvPr/>
        </p:nvPicPr>
        <p:blipFill>
          <a:blip r:embed="rId4"/>
          <a:stretch/>
        </p:blipFill>
        <p:spPr>
          <a:xfrm>
            <a:off x="3733920" y="3429000"/>
            <a:ext cx="2971800" cy="1238400"/>
          </a:xfrm>
          <a:prstGeom prst="rect">
            <a:avLst/>
          </a:prstGeom>
          <a:ln w="0">
            <a:noFill/>
          </a:ln>
        </p:spPr>
      </p:pic>
      <p:pic>
        <p:nvPicPr>
          <p:cNvPr id="271" name="Picture 5" descr="Honda of Canada Mfg. (HCM)"/>
          <p:cNvPicPr/>
          <p:nvPr/>
        </p:nvPicPr>
        <p:blipFill>
          <a:blip r:embed="rId5"/>
          <a:stretch/>
        </p:blipFill>
        <p:spPr>
          <a:xfrm>
            <a:off x="304920" y="576360"/>
            <a:ext cx="3047760" cy="1465200"/>
          </a:xfrm>
          <a:prstGeom prst="rect">
            <a:avLst/>
          </a:prstGeom>
          <a:ln w="0">
            <a:noFill/>
          </a:ln>
        </p:spPr>
      </p:pic>
      <p:sp>
        <p:nvSpPr>
          <p:cNvPr id="272" name=""/>
          <p:cNvSpPr txBox="1"/>
          <p:nvPr/>
        </p:nvSpPr>
        <p:spPr>
          <a:xfrm>
            <a:off x="4648320" y="1599840"/>
            <a:ext cx="4038480" cy="21891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73" name="Picture 25" descr="http://gadgetophilia.com/wp-content/uploads/2009/03/honda-civic-hybrid-2008-picture.jpg"/>
          <p:cNvPicPr/>
          <p:nvPr/>
        </p:nvPicPr>
        <p:blipFill>
          <a:blip r:embed="rId6"/>
          <a:stretch/>
        </p:blipFill>
        <p:spPr>
          <a:xfrm>
            <a:off x="228600" y="1600200"/>
            <a:ext cx="2057400" cy="150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unctions of an Intermediary</a:t>
            </a:r>
            <a:endParaRPr b="0" lang="en-US" sz="5000" spc="-1" strike="noStrike">
              <a:solidFill>
                <a:srgbClr val="04617b"/>
              </a:solidFill>
              <a:latin typeface="Calibri"/>
            </a:endParaRPr>
          </a:p>
        </p:txBody>
      </p:sp>
      <p:graphicFrame>
        <p:nvGraphicFramePr>
          <p:cNvPr id="275" name="Object 4"/>
          <p:cNvGraphicFramePr/>
          <p:nvPr/>
        </p:nvGraphicFramePr>
        <p:xfrm>
          <a:off x="990720" y="2011320"/>
          <a:ext cx="7238880" cy="3379680"/>
        </p:xfrm>
        <a:graphic>
          <a:graphicData uri="http://schemas.openxmlformats.org/presentationml/2006/ole">
            <p:oleObj r:id="rId1" spid="">
              <p:embed/>
              <p:pic>
                <p:nvPicPr>
                  <p:cNvPr id="276" name="Object 4" descr=""/>
                  <p:cNvPicPr/>
                  <p:nvPr/>
                </p:nvPicPr>
                <p:blipFill>
                  <a:blip r:embed="rId2"/>
                  <a:stretch/>
                </p:blipFill>
                <p:spPr>
                  <a:xfrm>
                    <a:off x="990720" y="2011320"/>
                    <a:ext cx="7238880" cy="33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4T16:59:38Z</dcterms:created>
  <dc:creator>Debbie Vincent</dc:creator>
  <dc:description/>
  <dc:language>en-US</dc:language>
  <cp:lastModifiedBy>paul.tilley</cp:lastModifiedBy>
  <dcterms:modified xsi:type="dcterms:W3CDTF">2011-03-23T17:30:37Z</dcterms:modified>
  <cp:revision>18</cp:revision>
  <dc:subject/>
  <dc:title>Marketing Channels and Wholesaling</dc:title>
</cp:coreProperties>
</file>